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1C876-0D63-4A01-BD10-21FBF49CEC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5280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4899A-A2A8-48CF-94C6-E9CD37E0FE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3D5EB-D60D-415E-B1C6-7186B04B92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5280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5280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5280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66EE4-7785-4328-9806-63437E5252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0A5E9-7A05-4FF1-9C80-680F806202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D535E-2490-4799-A159-B534F8AEE6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7C919-CA58-4A35-920B-DEB66A4D26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CDCBD-49AD-432D-98BC-6BD4246F93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F1952-B390-4385-8108-077906BBE5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22960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67320-74BD-4BE5-9257-2D4876210E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BA29F-910D-47D2-B0F6-FE7C51FB8E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A9DA1-0773-4A4F-ADE3-04921E5A15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46D98-3D94-44BD-B524-CD024EFD3E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5280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19A93-C782-437B-8ABE-66C5ABDED8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5280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6F333-644E-47A3-9331-B6B4CF6801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69E96-4ECD-4619-BC1B-28203F1070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5280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5280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5280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86283-B799-446D-A0F3-8E7D3E85AD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78D98-2282-4B41-808A-1A444014CE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E81DF-5B11-420E-9BB0-489F24829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72817-6CAD-4825-9DAF-2316C07164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22960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8FC07-E115-400B-858E-924D6272CE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93371-B8BE-4019-A68B-60EFE82AE2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3EF1A-1861-45F1-8DDE-61C4799880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5280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026FE-2B2E-4695-872A-16BCC5F8AD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459200" y="6388200"/>
            <a:ext cx="3193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CDB5-9229-4AE6-866D-2E4B2432739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7d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9999cc"/>
              </a:buClr>
              <a:buSzPct val="69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3" name=""/>
              <p:cNvSpPr/>
              <p:nvPr/>
            </p:nvSpPr>
            <p:spPr>
              <a:xfrm>
                <a:off x="573120" y="3582720"/>
                <a:ext cx="57636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141560" y="3582720"/>
                <a:ext cx="583920" cy="641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sldNum" idx="2"/>
          </p:nvPr>
        </p:nvSpPr>
        <p:spPr>
          <a:xfrm>
            <a:off x="7459200" y="6388200"/>
            <a:ext cx="3193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F217-46E9-40DF-B3C5-92D31A6FEF49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6019920" cy="2666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2971800" y="4266720"/>
            <a:ext cx="6019920" cy="259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58000"/>
          </a:bodyPr>
          <a:p>
            <a:pPr marL="226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2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2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2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his.ebscohost.com.ez-proxy.brooklyn.cuny.edu:2048/ehost/detail?sid=3bdcd655-4395-4aee-9065-e77bc5ff288e@sessionmgr4&amp;vid=1&amp;hid=3&amp;bdata=JnNpdGU9ZWhvc3QtbGl2ZQ==" TargetMode="External"/><Relationship Id="rId2" Type="http://schemas.openxmlformats.org/officeDocument/2006/relationships/hyperlink" Target="http://ehis.ebscohost.com.ez-proxy.brooklyn.cuny.edu:2048/ehost/detail?sid=8b90dfbe-3df9-4919-a310-b1b12889ed74@sessionmgr112&amp;vid=1&amp;hid=124&amp;bdata=JnNpdGU9ZWhvc3QtbGl2ZQ==" TargetMode="External"/><Relationship Id="rId3" Type="http://schemas.openxmlformats.org/officeDocument/2006/relationships/hyperlink" Target="http://www.highbeam.com/doc/1G1-155041084.html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7459200" y="6388200"/>
            <a:ext cx="3193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0242-8F7B-41B5-AB8D-B715566BD15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5664240" y="4622760"/>
            <a:ext cx="36068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8d"/>
                </a:solidFill>
                <a:latin typeface="American Typewriter"/>
                <a:ea typeface="American Typewriter"/>
              </a:rPr>
              <a:t>Lauren P. Bur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8d"/>
                </a:solidFill>
                <a:latin typeface="American Typewriter"/>
                <a:ea typeface="American Typewriter"/>
              </a:rPr>
              <a:t>CBSE 7201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8d"/>
                </a:solidFill>
                <a:latin typeface="American Typewriter"/>
                <a:ea typeface="American Typewriter"/>
              </a:rPr>
              <a:t>Seminar in Applied Theory and Research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8d"/>
                </a:solidFill>
                <a:latin typeface="American Typewriter"/>
                <a:ea typeface="American Typewriter"/>
              </a:rPr>
              <a:t>Fall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60240"/>
            <a:ext cx="91821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8d"/>
                </a:solidFill>
                <a:latin typeface="American Typewriter"/>
                <a:ea typeface="American Typewriter"/>
              </a:rPr>
              <a:t>Homework Support for Twice-Exceptional Student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54160"/>
            <a:ext cx="96012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cc"/>
                </a:solidFill>
                <a:uFillTx/>
                <a:latin typeface="American Typewriter"/>
                <a:ea typeface="American Typewriter"/>
              </a:rPr>
              <a:t>Statement of the Probl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12800"/>
            <a:ext cx="82296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rporating a time management graphic organizer as a cover page on weekly homework packets will motivate six elementary students for four weeks at a twice exceptional, private, K-8 school in Battery Park, New York to complete homework accurately and submit homework on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000680" y="3200400"/>
            <a:ext cx="4649760" cy="3594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60240" y="5054760"/>
            <a:ext cx="34164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*Assignment pages with BLANK weekly calendars are current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24280" y="2755800"/>
            <a:ext cx="3873600" cy="387360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9800" y="1625760"/>
            <a:ext cx="81914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a time management graphic organizer as a cover page on weekly homework packets, implemented once per week over a four week period will increase homework accuracy and timel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cc"/>
                </a:solidFill>
                <a:uFillTx/>
                <a:latin typeface="American Typewriter"/>
                <a:ea typeface="American Typewriter"/>
              </a:rPr>
              <a:t>Research Hypothe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71680" y="2502000"/>
            <a:ext cx="2984400" cy="3962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724280" y="1562040"/>
            <a:ext cx="3735360" cy="485136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6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cc"/>
                </a:solidFill>
                <a:uFillTx/>
                <a:latin typeface="American Typewriter"/>
                <a:ea typeface="American Typewriter"/>
              </a:rPr>
              <a:t>Gifted &amp; Talent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9800" y="1625760"/>
            <a:ext cx="39880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s-based, hands-on and individualized acade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68280" y="1289160"/>
            <a:ext cx="3784680" cy="4921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270400" y="1523880"/>
            <a:ext cx="2946600" cy="381024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0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cc"/>
                </a:solidFill>
                <a:uFillTx/>
                <a:latin typeface="American Typewriter"/>
                <a:ea typeface="American Typewriter"/>
              </a:rPr>
              <a:t>Learning Disabl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5473800"/>
            <a:ext cx="42418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d routines, repetition, sensory simplicity and graphic organiz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838080" y="2246400"/>
            <a:ext cx="6377040" cy="443232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cc"/>
                </a:solidFill>
                <a:uFillTx/>
                <a:latin typeface="American Typewriter"/>
                <a:ea typeface="American Typewriter"/>
              </a:rPr>
              <a:t>Executive Functio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4160" y="1549440"/>
            <a:ext cx="82296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ing lagging cognitive skills with goal setting and metacognitive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5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39680" y="296640"/>
            <a:ext cx="7647120" cy="998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cc"/>
                </a:solidFill>
                <a:uFillTx/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82320"/>
            <a:ext cx="8344080" cy="5435640"/>
          </a:xfrm>
          <a:prstGeom prst="rect">
            <a:avLst/>
          </a:prstGeom>
          <a:noFill/>
          <a:ln w="0">
            <a:noFill/>
          </a:ln>
        </p:spPr>
        <p:txBody>
          <a:bodyPr lIns="50760" rIns="0" tIns="50760" bIns="50760" anchor="t">
            <a:normAutofit fontScale="80000"/>
          </a:bodyPr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nd, E., Schuler, P., Beaver-Gavin, K., &amp; Beights, R. D. (2009). A unique challenge: Sorting out the difference between giftedness and asperger's disorder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Gifted child tod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, 57-6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nymous. (2006). Strategies that work for twice-exceptional student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Gifted child tod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2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, 20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um, S., Cooper, C., &amp; Neu, T. (2001). Dual differentiation: An approach for meeting the curricular needs of gifted students with learning disabilitie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Psychology in the scho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3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, 477-49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ey Nicpon, M., Allmon, A., Sieck, B., &amp; Stinson, R. D. (2011). Empirical investigation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ice-exceptionality: Where have we been and where are we going?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Gifted Child Quarte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5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, 3-17. Retrieved from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ehis.ebscohost.com.ez-proxy.brooklyn.cuny.edu:2048/ehost/detail?sid=3bdcd655-4395-4aee-9065-e77bc5ff288e@sessionmgr4&amp;vid=1&amp;hid=3&amp;bdata=JnNpdGU9ZWhvc3QtbGl2ZQ=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lger, J. W., &amp; Hynd, G. W. (2008). Neurodevelopmental variation as a framework for thin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ut the twice exceptional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Roeper revi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, 214-228. Retrieved from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ehis.ebscohost.com.ez-proxy.brooklyn.cuny.edu:2048/ehost/detail?sid=8b90dfbe-3df9-4919-a310-b1b12889ed74@sessionmgr112&amp;vid=1&amp;hid=124&amp;bdata=JnNpdGU9ZWhvc3QtbGl2ZQ=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weler, S., Barnes-Robinson, L., Shevitz, B., &amp; Weinfeld, R. D. (2008). Bordering on excellence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Gifted child tod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3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, 40-4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wandowski, L. (2009). Gifted students with learning disabilities: Who are they?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Journal of learning disabilit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3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, 515 -27. Retrieved from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www.highbeam.com/doc/1G1-155041084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on, S., Swift, M., &amp; Shallenberger, A. (2002). Perceptions of a self-contained class for fourth and fifth-grade students with high to extreme levels of intellectual giftednes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Gifted child quarte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4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inson, W., &amp; Campbell, J. (2010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Effective teaching in gifted education: Using a whole school approa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New York: Routledge. Retrieved from http://www.routledge.com/books/details/978041549346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dian, B., &amp; Hülsken, C. (2005). The developmental relation of theory of mind and executive functions: A study of advanced theory of mind abilities in children with adhd. In W. Schneider, R. Schumann-Hengsteler &amp; B. Sodian (Eds.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Young children's cognitive development: Interrelationships among executive functioning, working memory, verbal ability, and theory of mi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p. 175-187). Mahwah, NJ: Lawrence Erlbaum Associates, Publis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rell, F., Gabelko, N., Roth, D., &amp; Samuels, L. (1999). Parents' reports on homework amount and problems in academically talented elementary student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Gifted child quarte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4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8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ssel, N., Prater, M., &amp; Smith, D. (2010). How can such a smart kid not get it? finding the right fit for twice-exceptional students in our school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Gifted child tod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3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, 55-6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7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39680" y="296640"/>
            <a:ext cx="7647120" cy="998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cc"/>
                </a:solidFill>
                <a:uFillTx/>
                <a:latin typeface="Arial"/>
              </a:rPr>
              <a:t>Reference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82320"/>
            <a:ext cx="8344080" cy="5435640"/>
          </a:xfrm>
          <a:prstGeom prst="rect">
            <a:avLst/>
          </a:prstGeom>
          <a:noFill/>
          <a:ln w="0">
            <a:noFill/>
          </a:ln>
        </p:spPr>
        <p:txBody>
          <a:bodyPr lIns="50760" rIns="0" tIns="50760" bIns="50760" anchor="t">
            <a:norm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dian, B., &amp; Hülsken, C. (2005). The developmental relation of theory of mind and executive functions: A study of advanced theory of mind abilities in children with adhd. In W. Schneider, R. Schumann-Hengsteler &amp; B. Sodian (Eds.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Young children's cognitive development: Interrelationships among executive functioning, working memory, verbal ability, and theory of mi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p. 175-187). Mahwah, NJ: Lawrence Erlbaum Associates, Publis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rell, F., Gabelko, N., Roth, D., &amp; Samuels, L. (1999). Parents' reports on homework amount and problems in academically talented elementary student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Gifted child quarte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4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8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ssel, N., Prater, M., &amp; Smith, D. (2010). How can such a smart kid not get it? finding the right fit for twice-exceptional students in our school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Gifted child tod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3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, 55-6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Ramakkan</dc:creator>
  <dc:description/>
  <dc:language>en-US</dc:language>
  <cp:lastModifiedBy/>
  <cp:revision>0</cp:revision>
  <dc:subject/>
  <dc:title>Helping Our ELL Students Succeed: Finding the Right Setting</dc:title>
</cp:coreProperties>
</file>